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B84-10CE-444D-A597-91279A65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6B0-4F27-4777-B13F-CEB08A5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ABA-AB5D-4F15-8FA2-2CBC189A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154-AA44-4FCB-8562-9F58257D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2D3-473B-4FDE-B4AB-CCFCC39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BFF-BD6B-47BC-8996-98371B4D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0C4-A02D-4B24-A211-A6A82FE9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27E-EF87-402C-90A0-0C742F9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F55-D553-4567-9F81-6D8D070E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C78-911E-41C9-9CA2-B5E8BDD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BE3-F596-4649-B14D-8F7FDF6B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8D1-E3F7-4C18-997D-41B9934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423-BF20-4AA0-8E6E-7A2A7FCF0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Cj04241780000[1]"/>
          <p:cNvPicPr/>
          <p:nvPr/>
        </p:nvPicPr>
        <p:blipFill>
          <a:blip r:embed="rId1"/>
          <a:stretch/>
        </p:blipFill>
        <p:spPr>
          <a:xfrm>
            <a:off x="5613480" y="2708280"/>
            <a:ext cx="3363840" cy="38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4000" y="333360"/>
            <a:ext cx="7272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пецифика профилактики 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компьютерной зависимости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учащихся начальных классов.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Cj04241780000[1]"/>
          <p:cNvPicPr/>
          <p:nvPr/>
        </p:nvPicPr>
        <p:blipFill>
          <a:blip r:embed="rId1"/>
          <a:stretch/>
        </p:blipFill>
        <p:spPr>
          <a:xfrm>
            <a:off x="6426360" y="3645000"/>
            <a:ext cx="247968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0920" y="260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пренебрежение собственным здоровьем, гигиеной и сном в пользу проведения большого количества времени за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241780000[1]"/>
          <p:cNvPicPr/>
          <p:nvPr/>
        </p:nvPicPr>
        <p:blipFill>
          <a:blip r:embed="rId1"/>
          <a:stretch/>
        </p:blipFill>
        <p:spPr>
          <a:xfrm>
            <a:off x="6516720" y="3789360"/>
            <a:ext cx="2417760" cy="275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68360" y="260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готовность питаться нерегулярно, употреблять однообразную пищу, не отрываясь от компью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MCj04241780000[1]"/>
          <p:cNvPicPr/>
          <p:nvPr/>
        </p:nvPicPr>
        <p:blipFill>
          <a:blip r:embed="rId1"/>
          <a:stretch/>
        </p:blipFill>
        <p:spPr>
          <a:xfrm>
            <a:off x="6622920" y="386064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95280" y="333360"/>
            <a:ext cx="79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щущение эмоционального подъёма во время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241780000[1]"/>
          <p:cNvPicPr/>
          <p:nvPr/>
        </p:nvPicPr>
        <p:blipFill>
          <a:blip r:embed="rId1"/>
          <a:stretch/>
        </p:blipFill>
        <p:spPr>
          <a:xfrm>
            <a:off x="6226200" y="3500280"/>
            <a:ext cx="2606760" cy="2975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8360" y="62064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бсуждение компьютерной тематики со  всеми     мало-мальски сведущими в этой области людь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Cj04241780000[1]"/>
          <p:cNvPicPr/>
          <p:nvPr/>
        </p:nvPicPr>
        <p:blipFill>
          <a:blip r:embed="rId1"/>
          <a:stretch/>
        </p:blipFill>
        <p:spPr>
          <a:xfrm>
            <a:off x="6622920" y="393372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1403280" y="333360"/>
            <a:ext cx="61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чт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делать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3780000" y="3429000"/>
            <a:ext cx="129528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MCj03973520000[1]"/>
          <p:cNvPicPr/>
          <p:nvPr/>
        </p:nvPicPr>
        <p:blipFill>
          <a:blip r:embed="rId1"/>
          <a:stretch/>
        </p:blipFill>
        <p:spPr>
          <a:xfrm>
            <a:off x="6750000" y="3860640"/>
            <a:ext cx="2176560" cy="2679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611280" y="260280"/>
            <a:ext cx="7920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ограничивать время компьютерных забав;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о 7 лет -  не более 20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7-12 лет – 2-3 часа, но не но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292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39640" y="2276640"/>
            <a:ext cx="748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играть в компьютер перед сном запрещается всем де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обязательно дома делать гимнасти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окупать игры, основанные на эмоционально положительных обра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окупать добр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179280" y="3645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179280" y="2421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250920" y="40464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179280" y="436572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179280" y="6093000"/>
            <a:ext cx="360360" cy="360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20"/>
          <p:cNvSpPr txBox="1"/>
          <p:nvPr/>
        </p:nvSpPr>
        <p:spPr>
          <a:xfrm>
            <a:off x="7812000" y="549360"/>
            <a:ext cx="21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90" name="WordArt 21"/>
          <p:cNvSpPr txBox="1"/>
          <p:nvPr/>
        </p:nvSpPr>
        <p:spPr>
          <a:xfrm>
            <a:off x="8172360" y="1197000"/>
            <a:ext cx="287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91" name="WordArt 22"/>
          <p:cNvSpPr txBox="1"/>
          <p:nvPr/>
        </p:nvSpPr>
        <p:spPr>
          <a:xfrm>
            <a:off x="8604360" y="2276640"/>
            <a:ext cx="21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684360" y="260280"/>
            <a:ext cx="806436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риобщение учащихся к физическому и умственному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ривитие и повышение интереса к различным видам деятельности (спорт, музыка, рисование и т. 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воспитание стремления учащихся самосовершенствоваться   в     личностном  плане,                                      развиваться как              интеллектуально, так  и         нравстве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MCj04303680000[1]"/>
          <p:cNvPicPr/>
          <p:nvPr/>
        </p:nvPicPr>
        <p:blipFill>
          <a:blip r:embed="rId1"/>
          <a:stretch/>
        </p:blipFill>
        <p:spPr>
          <a:xfrm>
            <a:off x="6084720" y="3867120"/>
            <a:ext cx="2740320" cy="2700360"/>
          </a:xfrm>
          <a:prstGeom prst="rect">
            <a:avLst/>
          </a:prstGeom>
          <a:ln w="0">
            <a:noFill/>
          </a:ln>
        </p:spPr>
      </p:pic>
      <p:sp>
        <p:nvSpPr>
          <p:cNvPr id="94" name="Oval 12"/>
          <p:cNvSpPr/>
          <p:nvPr/>
        </p:nvSpPr>
        <p:spPr>
          <a:xfrm>
            <a:off x="250920" y="333360"/>
            <a:ext cx="43164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250920" y="1628640"/>
            <a:ext cx="43164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250920" y="3284640"/>
            <a:ext cx="43164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Cj03981530000[1]"/>
          <p:cNvPicPr/>
          <p:nvPr/>
        </p:nvPicPr>
        <p:blipFill>
          <a:blip r:embed="rId1"/>
          <a:stretch/>
        </p:blipFill>
        <p:spPr>
          <a:xfrm>
            <a:off x="5364000" y="3537000"/>
            <a:ext cx="3413160" cy="3025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971640" y="765000"/>
            <a:ext cx="7777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увлечение компьютером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не </a:t>
            </a: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должно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 подменять живое общение ребёнка со сверст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987640" y="2924280"/>
            <a:ext cx="36036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MCj04241780000[1]"/>
          <p:cNvPicPr/>
          <p:nvPr/>
        </p:nvPicPr>
        <p:blipFill>
          <a:blip r:embed="rId1"/>
          <a:stretch/>
        </p:blipFill>
        <p:spPr>
          <a:xfrm>
            <a:off x="6478560" y="3933720"/>
            <a:ext cx="2354400" cy="268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1403280" y="907920"/>
            <a:ext cx="5040360" cy="28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причин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492360" y="3573360"/>
            <a:ext cx="115272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4241780000[1]"/>
          <p:cNvPicPr/>
          <p:nvPr/>
        </p:nvPicPr>
        <p:blipFill>
          <a:blip r:embed="rId1"/>
          <a:stretch/>
        </p:blipFill>
        <p:spPr>
          <a:xfrm>
            <a:off x="6361200" y="3716280"/>
            <a:ext cx="2544840" cy="2903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11280" y="333360"/>
            <a:ext cx="853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ладание игров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формированность учебной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оциональные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250920" y="47628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50920" y="1197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250920" y="1989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50920" y="342900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50920" y="270828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393372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вых этапах привыкания ребёнка к компьютерной игре родители поощряют эти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250920" y="4076640"/>
            <a:ext cx="360360" cy="358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j04241780000[1]"/>
          <p:cNvPicPr/>
          <p:nvPr/>
        </p:nvPicPr>
        <p:blipFill>
          <a:blip r:embed="rId1"/>
          <a:stretch/>
        </p:blipFill>
        <p:spPr>
          <a:xfrm>
            <a:off x="6173640" y="3429000"/>
            <a:ext cx="2732400" cy="311796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611280" y="476280"/>
            <a:ext cx="6553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основны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имптом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492360" y="4149720"/>
            <a:ext cx="10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68360" y="692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ежелание отвлечься от работы или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Cj04241780000[1]"/>
          <p:cNvPicPr/>
          <p:nvPr/>
        </p:nvPicPr>
        <p:blipFill>
          <a:blip r:embed="rId1"/>
          <a:stretch/>
        </p:blipFill>
        <p:spPr>
          <a:xfrm>
            <a:off x="5965920" y="3141720"/>
            <a:ext cx="279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Cj04241780000[1]"/>
          <p:cNvPicPr/>
          <p:nvPr/>
        </p:nvPicPr>
        <p:blipFill>
          <a:blip r:embed="rId1"/>
          <a:stretch/>
        </p:blipFill>
        <p:spPr>
          <a:xfrm>
            <a:off x="6162840" y="3500280"/>
            <a:ext cx="2670120" cy="3046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9640" y="549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раздражение при вынужденном отвлеч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Cj04241780000[1]"/>
          <p:cNvPicPr/>
          <p:nvPr/>
        </p:nvPicPr>
        <p:blipFill>
          <a:blip r:embed="rId1"/>
          <a:stretch/>
        </p:blipFill>
        <p:spPr>
          <a:xfrm>
            <a:off x="6416640" y="3789360"/>
            <a:ext cx="2416320" cy="27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50920" y="47628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еспособность спланировать окончание сеанса игры с компьюте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241780000[1]"/>
          <p:cNvPicPr/>
          <p:nvPr/>
        </p:nvPicPr>
        <p:blipFill>
          <a:blip r:embed="rId1"/>
          <a:stretch/>
        </p:blipFill>
        <p:spPr>
          <a:xfrm>
            <a:off x="6226200" y="3500280"/>
            <a:ext cx="2606760" cy="2975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5280" y="549360"/>
            <a:ext cx="792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95280" y="47628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расходование денег на обеспечение постоянного обновления иг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4241780000[1]"/>
          <p:cNvPicPr/>
          <p:nvPr/>
        </p:nvPicPr>
        <p:blipFill>
          <a:blip r:embed="rId1"/>
          <a:stretch/>
        </p:blipFill>
        <p:spPr>
          <a:xfrm>
            <a:off x="6415200" y="3645000"/>
            <a:ext cx="2417760" cy="2759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81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забывание о домашних делах, учёбе, встречах и договорённостях в ходе игры на компьюте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20:26:30Z</dcterms:created>
  <dc:creator>Жанна</dc:creator>
  <dc:description/>
  <dc:language>en-US</dc:language>
  <cp:lastModifiedBy>Ира</cp:lastModifiedBy>
  <dcterms:modified xsi:type="dcterms:W3CDTF">2013-03-24T17:36:53Z</dcterms:modified>
  <cp:revision>12</cp:revision>
  <dc:subject/>
  <dc:title>Слайд 1</dc:title>
</cp:coreProperties>
</file>